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B6FE125-15BF-465C-AF08-4E56A85F8146}"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69C086E-3C5A-4FD8-9D13-37F9F84748A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C739FDE-AC1B-45A9-8503-60C8D54C846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F0B9405-7535-4BE2-82FB-5C6BAA9195E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BE6D782-9AB2-4B70-9AE4-E1019F092BE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ED15CBF-7BDD-4A4C-9FE7-2798701DAA0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CBD0FBA-28C2-4053-BA5E-C58320FDB39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9FA2E17-571F-4AE1-A00F-77AB8578DCB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8F96541-B33E-45CA-8219-75C4173FC18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EB22FE1-2C9E-4713-ACA4-F636904B325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DF75850-9FEC-4458-9CD4-B3A39BF67A0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8C57705-023A-4472-876B-2E593BF7A4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7FCE2B-B158-4103-90A6-BF1E670422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3D9BB89-B154-40F5-8845-E140D5C981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CE077CD-7E24-434C-AAEC-B9B780F105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44B0560-5601-4719-895A-C604DE46A3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3FFE09F-EED6-40FA-8086-C5D4F9D24A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5A1EA80-5134-4FD2-9B8D-3DDC2A56BD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22DE1A2-B2C4-4E45-9632-721DAE1FD1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AE955D9-02C5-4597-A322-C11BF588085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180453C-3355-4B5A-B785-FA492B5546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F95D887-36AE-46D4-AEB1-AF6D698543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C24F41-9B76-4379-A0D2-62142A16A3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95C2EEC-F0D2-4553-9FE9-E26C7EE936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38C3B7C-9EE7-4055-B7DA-0717EDE3E24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CAC3F18-0404-4A15-B798-3C12B1ECA6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D111EF5-ED2C-4D06-A6B5-40A0C1472D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01770D5-CD54-4760-9654-663B7E37E2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CBB063-8738-421F-8F29-B70D411909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E0A96D-3832-4E59-AB2C-4D11429FCB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F72F57-3E20-4DF5-B08A-D5848D9BDA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D866C7-284D-4A11-B559-F13F7E4338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070A25-E6C2-4077-9ADF-B9D23C202D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EF7181-195B-4B51-A379-C1D95FB760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5AA263-0A54-4AB6-B125-5EFE92347A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05405-3E38-4F2B-8B80-293F7F3355E6}"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148B8-EE20-41E0-95FD-D5A7CAC722A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D384A143-245E-4817-B5B8-A4E46D0B14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F5C40EB-DE8C-474E-8017-90D8733DF00E}"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F934542-6700-4BA6-876C-0A4C6428FEF2}"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702A556-6813-4D2F-A034-59BD4F883DC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870825E-9AAE-4DF3-B02D-3C657776213C}"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C252C46-FAD3-4D65-84F4-CDBA5FEDD6C5}"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ED45452-FA54-41CA-A919-2A83D7E586D1}"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A40258E-D621-4F06-BB09-1570C98BD5C3}"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5B476AE-93F7-4F5A-AE6F-9B6ED4FF1939}"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DFBB5A0-4EB8-4C6A-ACE8-C6728EEF9E2B}"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DB2E55D-F0E7-4106-8AEF-7D8915559648}"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A91771F-9A0B-4084-A2BF-D5EE417CAB9B}"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E349586-9834-43F3-967B-84715FA30B49}"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6FCC8BB-2F1B-4A10-89CD-F4B200BDDD3B}"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2518039-3588-4A5B-9B6B-3734C4A789BA}"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1ACE980-CB6B-4897-A0CC-B689CFE2DE44}"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C90B892-20FD-44C3-AB39-A762C8DD3A45}"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DBD22D5-F95D-47CA-B18A-D5405E5FF119}"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347FA5B7-F05D-483D-AE12-CC606245B33A}"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C3ACBCA4-FEEF-45A7-BCB7-635EDF486948}"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BA1E222-F754-4B5E-9253-BD46360F4E30}"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FB3D410-A205-498E-8276-C4A2F4D79D7E}"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FCE9D3C-7560-4F88-8C54-2A1B657E4937}"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48AA719-4764-437E-892B-AF783B411ED4}"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DFFC547-FA70-4B2A-B4FC-1213F57F6E5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7A6C27D-4A20-4E19-B8D0-EF8FE21E2382}"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99D74EF-3ECF-4030-A7E1-75E1978959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CA0A4F7-0D35-439F-9519-D788DD55CE2B}"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35FB511F-AC24-4B01-B781-74CDE5C9E5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68AD021-2A98-4F90-B624-1BDBFA9DC7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5C685A3-68A2-46FD-B033-5A29216D86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E21F56D-0BD0-4E3B-8A87-84BD352516CC}"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5661EC6-3DA8-4A9B-90CA-D83DA5C3B4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3CE2C57-10DC-4354-8A19-6F9E7B6CCE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75E28BE-B447-41B8-9ECA-B5723BFF9E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B4E00A2-2EB8-4A04-9A77-285F94BEC4E3}"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FAC4552-F4DA-4988-835D-6D093D9111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771A1B0-0AD1-4175-B7B7-1F0B5C3B7E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D96D741-7714-4642-931F-6249A5F096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2E91248-D898-4267-A646-C558649AB172}"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440ED26-3E93-4588-9CCF-9BEF857727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8F832D-5D4F-41C7-8F77-B24B42D01E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E61D0BA-9E61-4C32-9F26-621BB4B807D3}"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07FC2D0-5106-4EF2-A380-FB06A1B9B8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4E3AB41-040B-484B-9B54-F114808133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A667D5B-9087-47A4-A1F3-9A28F63C53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0D354B1-8635-4A87-B2F3-5476B2EDA2A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2B59894-A6B0-4709-A5DD-8702119D9A2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FD26847-C5F4-4EA7-BF7F-6B08018149D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6F84D29-B08C-40A7-BA2D-49CD6B2C976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8BCB1F6-B22D-4BEC-B431-FBC4270423F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77901A8-2E90-4412-9E9D-5B5292EA13F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DAE5667-CF0A-4571-B593-4EB4E022947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EF9487-AD83-4290-ABF4-E7482D172BC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E04D5E3-C42E-46E4-BF40-8936C1378B8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A161382-987F-4398-8795-F9DC2442404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8882D88-CAC9-4A3D-BEF6-EA964981CB6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ED588A7-8614-406C-B256-94731858A87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571EF2E-608B-4FDA-B183-42E00F8475E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F02CC49-45A1-4B61-B8EE-A4335E6E2BF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84BB5D-BAED-45AF-9762-44A52848343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ED953CB-3DB8-4CF2-B9E1-83642BF0AE8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ACC844F-A94B-48C8-82E1-1EF8376E451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2BACEE2-327D-457F-BBCC-6FD01301B577}"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5A2DB6-F5B7-405C-8D4B-DBB04ECD5F9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5D7A270-694D-4534-A3F6-4938557CB7D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0793D2E-18C6-4B32-86F7-290CEFFA2EE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BB4D6F6-B0E6-4DEF-8E48-C8DA0D7F231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6524E8-A2F3-4588-9B3A-20CFD9FAD5A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F5DE697-9055-4E01-9CE4-0479E0F8005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EBFA94D-F4E7-4C3D-B0F7-4D892042B10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E8B202C-7CCA-4D0A-BB22-38221A22584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447BF5E-A6A1-45B5-8BB1-34DB2CDA5E0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273EA69-5B63-41F4-84ED-E3F66F42483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A20B512-57D7-4AB9-BE60-D1A18DF8258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415188A-02F5-4302-85F0-1BB86082074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CB1747E-1A60-44FF-8CDA-3E20821C8A3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C00B9C6-DC24-418B-AE3B-268E780AA76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6383531-AF36-4D01-B37E-B36C7957088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FCC1B14-2AEB-4706-B0BA-579E531E261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E4B0135-5AB4-4E9F-87B9-902EBF46F33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8DB294D-40B6-4516-8788-E3855234BAC1}"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E53FE6C-CE55-4EFF-8E61-404DC9C4DABD}"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CED4F07-1F62-4E28-9521-A5FCBA24350E}"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BB95DAA-7DBF-4B41-8391-3BBA5D83D4E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C019F76-2ED4-41B2-8628-13427CE7F1E1}"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18ACAAA-D57E-4416-AB81-B55E64A33F5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D6E486B-F372-4524-8C30-40BD59316109}"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1EF97A6-B41A-4040-9E7E-9D6171ECB052}"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7BC7945-473F-4CAF-B724-73A21439A954}"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AF8FB9-2A9B-4051-87F7-49D0E3C954AA}"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E2D8D30-E13A-4435-82C3-69864981E5FF}"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389B2BE-3B48-4E66-A5F2-9BBA6B7D4739}"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637C245-B0F7-46CA-AB90-21D33B1D804C}"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994F847-F7D2-48C1-A521-4754DFA48290}"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B874ED-32D2-4823-87B2-74A58B70B7F7}"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11E12E3-ED28-4C35-9574-6EE12A91E2A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C5365584-113E-448F-9F8F-73C0BB65DE6E}"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CB81735-43D4-432A-8C78-64771D63AE6B}"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9E503D7-2B99-4E40-B608-CEEC0C8F0FA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212874C-7911-48E7-A139-E562CA09768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365556F-B7BC-4A1F-8193-D0508194AEA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406ED4B-0122-4C7E-ADB9-8C8BE363F43A}"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BD45106-89E6-4208-94D8-94825951F07F}"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593549F-37E2-4F9E-AE71-58C0DF98BF2B}"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EDEBA6F-7E19-424A-80A9-EFB2D07A970F}"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1C56D88-5D00-4A1E-B084-B4E09C9BDFDD}"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343C307-C3FA-4A0B-8562-34FB6DD88A42}"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CE39E7A-1A04-420E-AF40-7AA9B633791F}"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A125EFF9-0C6D-43E0-B372-DCA4D61B479E}"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A386589-3B51-4A0F-AEFD-7CE6EC2BE67F}"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1527625-A4D7-40B9-9746-B0FC50CDECE5}"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BD4D84F-3B21-4388-A305-7339E1D8A0F6}"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BA13D0-4A6D-4215-89BF-D1C3041E3E5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424847C-EA76-4C1E-9182-AA326BD10750}"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A554FA8-81AA-45EE-8221-0F88028D8E64}"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97CCD0B-5F79-4346-B8C7-AAE411465E91}"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256737D-E82E-4653-AC4A-9090946828F6}"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4FD7390-6E83-4B9D-8860-04589125A88F}"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5CC0BA8-E6CF-4127-B326-A61C5576B90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437CD14-889E-4BDC-81A6-442BCDB1B39C}"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