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D4067EB-EC32-4478-B350-85611FD93D2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1813688-0AD4-4CB9-A46D-1C78CC91ECC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B2965EF-88C1-4CB2-9290-93FA461A4AA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A82E9F1-439E-48E1-B454-BD9BE53046D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BFBB4A4-2997-459C-8CD5-A066C13EB6F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6FA0F2F-56C3-453A-9BA4-EF2CE46B779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3187E3E-7FF9-48B9-A4B8-CCB9A70F363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1CB2039-98E6-49D2-9F38-9FE81B4A4F7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9C067A6-44F3-4E26-91AF-20BEB0A8569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35D3DF9-3DE3-41C5-9D5E-CD6AA81D76C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C1D0739-B224-48BD-9B49-CF26C90685D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A93D6F8-21F0-4018-AD74-CF29C9DEC40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30540E1-E4A2-4ADC-BF84-5BEBA67A6E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49F64A-2C46-4451-99EB-F8068D076C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99E0361-877E-442F-A48F-3EE335B9D0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DD25961-989A-4DE9-91E5-9C4A438C35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7BEA0CE-A877-4C91-A17C-86CC89722A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780CC67-83D1-467C-A7D1-2ED449ED0DA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4D72EAD-7783-43F6-9A28-82A59E6A4C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D4FA21E-B4A5-4889-8339-74D1031CD0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B0287EB-95A7-43C3-9861-5A36183D2C3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14CCCE6-4E62-48E8-8B28-C9582411B5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33C618C-9931-48CB-9847-FC98E78DEDA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8D3CE9-5CB7-4CC3-BD1F-67A7F9EE7E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CFB56C6-067C-44A6-93FA-80C9252D0EB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18DEE67-A391-4FE4-9615-B666031B0A0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623BFC6-749C-48DE-8355-3B190F3FBA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4437BD4-35C6-49E8-A15D-2741EA2876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58DD162-7ECD-48ED-82FB-BD0242DD90B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50CE25-0790-429F-B5AD-76E5C921FB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5F4802-EEA1-47CF-8196-5B49A977E5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E0AD83-5F34-41A0-9171-50DD37765B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0DB102-9567-4DE8-8854-654362D303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77D270-B01E-4158-8CC1-8DB3176668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E6521C-80C5-472E-996E-FBE02A427D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BA0AB3-BD74-4C94-A62B-B407F661F2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58029-AB6D-4B80-A258-BEE52ED40A97}"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03ECB-3F24-4A5A-83F1-C946E27903F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A3DD9CA-68E8-48A7-ADAB-5621FC819C2F}"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BA9A2D-32CE-4C2D-83E1-B150843C020F}"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62343EB-0FB2-443D-9ECB-C29F1D5CF3D6}"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872AAA1-9ABD-4368-B827-42B977040BA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967BEB-EC32-461C-A242-85430BC178B1}"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9823F3-0AEE-4847-924F-97D4C13AE4F6}"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2285C9-54A5-4FAE-A128-0A5CA1BC7C65}"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A86289-5C55-4EB3-BA9B-FE485EB44A9E}"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121C803-B2AB-4A8D-B8D4-3A3ACB598945}"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40EE46E-DBBD-4C69-B509-E9EF10EF8F86}"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999C491-9623-4280-AB55-D3C00A9BE259}"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F92DFE48-17D0-4890-B558-1E5499232DE8}"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E423731-0227-4124-B799-9A8CE08D33A7}"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8367798-B071-40DB-814E-BE2D97F819A9}"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8FAFAAF-87C0-49CD-A527-DB80F573EA7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7151497-F9D1-4FDD-BD80-CDBC33AF141C}"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7247D2-B287-4FD6-8B6E-7D4BDEE5A5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2B07843-D776-4936-B597-5ABB203397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3E469DE-8B8D-4FD1-9C0C-D695C1FAC7D6}"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54D43DA-A7A2-418B-9453-F682689052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6DCF7FC-76A3-4560-AA92-408FE2E467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354A54A-B597-4BCA-826D-1E778E01EC1B}"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9A244FB-47D1-435B-B743-E4244CE131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2BA68F3-D3F0-40FC-83DC-729F5F917A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CC2DB3E-4FA6-4C2A-A1DA-A809F33EFF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51BC2D0-55A4-4342-A27E-9B5A0AF0E8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40211E5-8348-4AAC-BDAA-ABB7F692EA27}"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390CD4D-F0AE-43D0-A299-547DA4B6A9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DF1A16-C29E-4360-9020-F2DB87B770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55B42DA-4024-4A4D-9A32-680360F59465}"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2D209E-8719-4B95-A42E-8FCB0EAF67A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546A3E-8EF6-4CA1-A3AE-D3A1E964B8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E120257-C47A-4F1F-B866-7ED2BBF820C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E9210E-BC8A-4EAD-A144-6DC2B334602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4DA404-912A-407B-9A92-91CC5EB7EB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BF41AC-E1AD-4DDC-8A7E-767C2CD85A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6C02379-93A8-465B-A037-102BAAE05ED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AF45CE3-F9D2-47FD-B3E3-50440327EB8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51F933-738B-4234-8607-75F1EB177C9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54913E7-61B0-4CC9-8851-83FCFCCE194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FBB26F3-EFB3-47F0-BD30-5A8181BFF1B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788F489-036D-45B1-861C-6345A612A48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C1ED9D-948C-416F-B4D2-F63A5F470B3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5138D1E-81A6-4866-9545-BA6E54E7BD2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99E5987-8F3F-4479-A9EC-75F831D991E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9988EF9-4805-431B-95A1-0B99372D6F1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CBCB33-57DB-48E7-9FA6-87128644402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E013961-5575-420C-8B82-DF002E2451E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64321A9-9684-47AE-8C59-CD58ECA41B5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E0E6429-7D84-4769-AB8F-3BF6344E71F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9169F7B-5D41-4CA1-AE7E-1E50751F83C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C2BFE60-9B6E-444F-8D13-602CCD10303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3DCA4AC-C073-49F2-AEB3-1EB075489A9D}"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E8981F0-CC07-46A6-878B-FB5F328AAFC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DCE3DB3-98FA-4DD9-8680-101FD0BCEB53}"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EE43B35-4CDD-4D32-B436-3CF343EDE87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F8E0175-4B38-44A9-8076-61A7979D18FF}"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B32368-E8E4-4930-82A8-A4812F513E2E}"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B45A34-56CC-4D07-9645-EDC976AFB5E7}"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996A562-DCAE-45DF-A9C2-F4FF66178DA9}"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EB8ABBF-9FA5-4EE4-A91D-1165484C2888}"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9C1A73E-2B84-41E3-9C79-8B8A057C5F9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97DB4EA-A71D-4F78-8CC6-A6BF0A2087A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0A2581A-098E-4CA9-8F44-BFA20704400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089C0C-C3E7-4B41-ABCC-7BFFDAD7452B}"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8062CAA-95AA-427B-BA35-70F2BDAFAE77}"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5E4045-C848-4408-B9E6-A464635AD06D}"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FBA8579-FD6A-4A7A-86CE-382725E3A879}"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44C2D2-110A-483A-8E3E-6D4E2417EA12}"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CB62B7-E240-4DF6-B0E3-079B7BEBCD1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51B926-D27C-487B-ADF7-78A0B0E7FD07}"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785A24-182E-4D01-9807-94FCC808B2A4}"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8E257A-BD6B-4DD5-A145-C8EB138122BF}"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594DD6D-2D03-4176-9665-BD0B8B11A636}"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429C3F-CE49-48A1-A77E-C79777592EFA}"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8F1F07-A7FF-4063-8863-50D6DAFD62FA}"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5F774C-CF6D-4A34-B7F8-38CCC64A0B6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042F37-2A0F-4084-8D76-5D2C3229F6A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3C86D94-FC7E-40E5-ADCA-6E26EDF88465}"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1E23391-63C8-4A31-8989-57C16B494FB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9C4E917-FA68-4B91-9927-B836C673BAE8}"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8E9DAD-7429-4B78-BFEB-F8C54C5E6282}"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75B3727-DF2E-4896-BA81-E5E6F2CD91B4}"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09E6AB3-4C75-453B-BEBD-11E2ACC606F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D60124A-DF95-4F10-BBC7-36051FE716F4}"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78D2E96-C098-42F5-9A36-E6D4A6DF6F83}"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8A8F80-9CFF-4DC2-A8AE-F201C9AD9368}"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DE43F78-3E32-48DD-B856-4928A679A4FB}"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B63788-AB46-4456-A838-75D1401A276F}"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0A23E7-EB9B-449D-98C5-902C5C6749D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99A17E7-3358-4339-8BDE-538A575D9D34}"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1134DF-FCF1-4A06-8A95-9EA47D4BA4F9}"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7B8DF3-44E2-423B-8528-3AF554D36E0F}"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963EDB-03D9-4BF6-A0E6-22A06394508F}"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9E75973-4AEC-46F3-8B75-50FDEA54F065}"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6F684B8-EC75-46C9-BFC1-CF7AB4341845}"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E647710-44E2-4290-8EB3-32BB849D5271}"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6F6F7DBA-771D-48C0-9427-1483BA09476C}"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A3DDB9-A759-4553-9709-AE4C1E0D50F3}"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E2A39AB-926E-4FEA-8320-170D9B37078E}"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1026AA-A635-4F03-B07E-EF336EF4ABFE}"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FEDF66-4314-4E68-BFCC-880CE7981728}"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65F3D75-2573-45DF-BC28-287353CE6F8F}"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C70A94-E24E-4335-9CBE-F636FD3D1CC9}"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45F38F-1173-41FC-9119-0E7C8D48B4FC}"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3CB8F3F-14FC-4265-AA1D-8C4F3523B3F7}"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2E828E-02E9-405C-AF8A-201C3A54CE47}"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5490865-E5D2-4F6F-AF0A-72A6DADE1CDB}"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0A963F-0B0C-44C4-B7BF-86ED44373AE6}"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634C8BC-9CBD-4651-A6F4-00E900A8D507}"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B39F0C-E2A3-4429-87DB-D44F8B5DD497}"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