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89972-1AAA-4D87-959B-24C67FF30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A7A16-0722-435C-974E-3A02FC916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FEEB6-8DF6-4044-A8EB-BA75E7035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6A9F1-0895-4601-969E-393F1F0FB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A2475-2680-4B70-8C70-715308F35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A6C4C-ED04-4976-A0B2-DCDE06B09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9CA3D-E5F2-4782-9401-F1F3753AF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76B20-9FE5-4BCC-B818-57770D473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D07A7-CC16-4E8E-8616-02AB79276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EE371-F3AA-42DB-AB31-11DEE6C46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587BE-E17C-4F7B-9F03-E862E4AC1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17DF6-7A9E-4EE9-AFBD-725A1ECED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94778-131F-4D92-97C9-321ACDB52718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44964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10656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34920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Vertic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Horizont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uble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965680 w 7197480"/>
              <a:gd name="textAreaRight" fmla="*/ 4231800 w 7197480"/>
              <a:gd name="textAreaTop" fmla="*/ 1482840 h 3598560"/>
              <a:gd name="textAreaBottom" fmla="*/ 21157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5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8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16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2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32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148920 h 35985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21:57Z</dcterms:created>
  <dc:creator>tb121644</dc:creator>
  <dc:description/>
  <dc:language>en-US</dc:language>
  <cp:lastModifiedBy>tb121644</cp:lastModifiedBy>
  <dcterms:modified xsi:type="dcterms:W3CDTF">2005-05-25T11:22:14Z</dcterms:modified>
  <cp:revision>1</cp:revision>
  <dc:subject/>
  <dc:title>Slide 1</dc:title>
</cp:coreProperties>
</file>