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2F3DE-637F-415A-91E2-4F5C74778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88500-2FE2-4ACE-A7B6-080AC98F6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0D723-DD95-4A5F-8F1C-BCE4A5AF5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8CBFC-0521-4EF6-B0E8-CEA40CE59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C34D1-3E53-45D6-86B0-9AE6843B1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6E2AB-75BF-42A2-B1A7-8EA4B4AC2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38509-B295-410E-BE8F-6537BC6A2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16F4B-7376-4199-B286-F1DFAD8F0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CDCE5-3E0B-4E7D-90D4-0E6986B52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7F7BC-5FDF-4171-84C5-745992C39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813EC-DBEA-40CC-88D2-E3E1BC8E8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F723A-B157-49CB-B8D2-C2BE0D9B9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C25A9-2870-47E0-8F00-A7369F29F4E8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hexagon">
            <a:avLst>
              <a:gd name="adj" fmla="val 50003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x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plus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ro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pentag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gular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Folded Cor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miley 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donut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n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noSmoking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“No“ Symb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parallelogram">
            <a:avLst>
              <a:gd name="adj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arallel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lock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91640 w 7197480"/>
              <a:gd name="textAreaRight" fmla="*/ 5501160 w 7197480"/>
              <a:gd name="textAreaTop" fmla="*/ 423000 h 3598560"/>
              <a:gd name="textAreaBottom" fmla="*/ 2257200 h 35985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ightningBol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ightning Bo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su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Mo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-6838200" y="358920"/>
            <a:ext cx="14394240" cy="7196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24080 w 7197480"/>
              <a:gd name="textAreaRight" fmla="*/ 6773400 w 7197480"/>
              <a:gd name="textAreaTop" fmla="*/ 424080 h 3598560"/>
              <a:gd name="textAreaBottom" fmla="*/ 3174480 h 3598560"/>
            </a:gdLst>
            <a:ahLst/>
            <a:rect l="textAreaLeft" t="textAreaTop" r="textAreaRight" b="textAreaBottom"/>
            <a:pathLst>
              <a:path w="4320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39600" y="21600"/>
                </a:lnTo>
                <a:arcTo wR="3600" hR="3600" stAng="10800000" swAng="5400000"/>
                <a:lnTo>
                  <a:pt x="43200" y="3600"/>
                </a:lnTo>
                <a:arcTo wR="3600" hR="3600" stAng="5400000" swAng="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la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115720 w 7197480"/>
              <a:gd name="textAreaRight" fmla="*/ 719784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582560 w 7197480"/>
              <a:gd name="textAreaRight" fmla="*/ 5614920 w 7197480"/>
              <a:gd name="textAreaTop" fmla="*/ 791280 h 3598560"/>
              <a:gd name="textAreaBottom" fmla="*/ 280728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Trapezo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504828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598280 w 7197480"/>
              <a:gd name="textAreaRight" fmla="*/ 719784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259920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iam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ounded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Isosceles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rtTriangl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22:04Z</dcterms:created>
  <dc:creator>tb121644</dc:creator>
  <dc:description/>
  <dc:language>en-US</dc:language>
  <cp:lastModifiedBy>tb121644</cp:lastModifiedBy>
  <dcterms:modified xsi:type="dcterms:W3CDTF">2005-05-25T09:56:44Z</dcterms:modified>
  <cp:revision>2</cp:revision>
  <dc:subject/>
  <dc:title>Slide 1</dc:title>
</cp:coreProperties>
</file>